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2AA-C6C8-410E-B102-9ABDB950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E35-A3B1-4BF2-8BA9-6BE0838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85D-72C3-47F6-8581-E19A3B7A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E7C-2297-44EA-863D-F3DD4D4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DE0E-C732-40C9-9638-6229AFF4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3D5A-D94D-4F6C-AA0E-0EF4B7DA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23EB-F7C5-45FD-AEEC-9D3FECF1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6B82-D362-4985-AD29-1E47A624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FED2-DBE4-4E16-9A94-64EC5B8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70B1-0983-4DDC-93B6-575645F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9296-DF28-4130-A3AC-B536ADC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7D1-0C40-4436-B8B6-DDF4F1A8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EF0A-B6C9-46D9-A2AE-9A962538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553-BF9D-45B9-AC2A-7172ABE2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556A-4B14-4BD6-8C37-D8136A27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5206-A343-4106-A2C7-71BBB363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2EE9-DC87-4320-8BAA-70B1041E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137-458F-480A-A412-E2A5F845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E90-0486-4584-81CF-7F756775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713-7E03-4F4F-83B1-771C86F6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EE-FF46-4D63-BB98-C4675003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C09-7987-48BE-BA2C-82D2ADA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161-FF70-4CB1-8D89-7EA43E5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79A-5960-482A-9137-70BD4AC2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E23B-C58B-456B-A429-8EEE12F08D2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594-8985-4653-B38A-A0237D087B2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rting Energy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vestiga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w of Conservation of Ener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7524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tates that energy can neither  be created or destroyed, it simply changes form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refore, heat represents energy that has changed form during a physical or chemical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Proces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8001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s involves changes in states of matter that result in heat transfer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ample: Ice melting and water freezing are two physical processes involving solid/liquid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involve change of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dotherm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0773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is is the process in which heat is absorbed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refore, this process is one that absorbs heat from its surrounding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 general, endothermic processes or reactions are signaled by an increase in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otherm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3880"/>
            <a:ext cx="8153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eat exits or is released from the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freezing of water is an exothermic proces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xothermic processes are signaled by an increase in temperature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838080"/>
            <a:ext cx="815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mperature change is one of the common signs of a chemical reaction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When determining the change, scientists look for sign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igns include: unexpected color change, a change in pH, a change in electrical conductivity, change in melting or boiling point, etc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3:27:06Z</dcterms:created>
  <dc:creator>teacher</dc:creator>
  <dc:description/>
  <dc:language>en-US</dc:language>
  <cp:lastModifiedBy>teacher</cp:lastModifiedBy>
  <dcterms:modified xsi:type="dcterms:W3CDTF">2010-12-16T13:42:48Z</dcterms:modified>
  <cp:revision>1</cp:revision>
  <dc:subject/>
  <dc:title>Converting Energy Investigation 3</dc:title>
</cp:coreProperties>
</file>